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SPKGLISS.WAV" ContentType="audio/x-wav"/>
  <Override PartName="/ppt/media/WHOOSH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2C65D-F3B2-414B-8E1A-5EBA3EFF3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041AC-07EB-43FD-8722-87DD8AF57565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3EA3C-37E7-4A15-882B-A9862E02FFA3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B6DDE-4AD6-48AC-AB88-AF02700108A1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92525-DC40-417C-824B-888E19C85DAC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8FB6F-F205-4016-B139-663929145BA6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3FEB5-AD44-40D7-9D9F-DAB9D6CC67F7}" type="slidenum"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32F7-834A-4E55-86C1-12E95C5F8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327636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74912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1BE0-0554-496D-A6B7-35C2AE041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3276360"/>
            <a:ext cx="37926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3276360"/>
            <a:ext cx="37926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749120"/>
            <a:ext cx="37926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749120"/>
            <a:ext cx="37926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C180-E1F6-4788-BDF9-B98935B5B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3276360"/>
            <a:ext cx="25023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3276360"/>
            <a:ext cx="25023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3276360"/>
            <a:ext cx="25023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749120"/>
            <a:ext cx="25023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749120"/>
            <a:ext cx="25023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749120"/>
            <a:ext cx="25023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29A3-5F42-4FE9-ACF4-507FBCDA0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32763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32763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3276360"/>
            <a:ext cx="3792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3276360"/>
            <a:ext cx="3792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276360"/>
            <a:ext cx="37926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3276360"/>
            <a:ext cx="3792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749120"/>
            <a:ext cx="37926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32763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6B3F-719B-4F15-A3EA-D65585023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3276360"/>
            <a:ext cx="3792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3276360"/>
            <a:ext cx="37926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749120"/>
            <a:ext cx="37926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3276360"/>
            <a:ext cx="37926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3276360"/>
            <a:ext cx="37926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74912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327636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74912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276360"/>
            <a:ext cx="37926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3276360"/>
            <a:ext cx="37926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749120"/>
            <a:ext cx="37926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749120"/>
            <a:ext cx="37926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3276360"/>
            <a:ext cx="25023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3276360"/>
            <a:ext cx="25023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3276360"/>
            <a:ext cx="25023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749120"/>
            <a:ext cx="25023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749120"/>
            <a:ext cx="25023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749120"/>
            <a:ext cx="250236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32763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5750-D65A-458C-84C7-3B9D4AD73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3276360"/>
            <a:ext cx="3792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3276360"/>
            <a:ext cx="3792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6455-4CF5-47A1-B059-E44F62F1C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4102-9B3C-4C0E-8A4F-F4E2368A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2603-5716-401C-ACA8-ED0587073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3276360"/>
            <a:ext cx="37926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3276360"/>
            <a:ext cx="3792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749120"/>
            <a:ext cx="37926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29A7-91D4-42C7-B990-BD352D3F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3276360"/>
            <a:ext cx="3792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3276360"/>
            <a:ext cx="37926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749120"/>
            <a:ext cx="37926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5801-0838-49FF-AE41-29C2900E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3276360"/>
            <a:ext cx="37926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3276360"/>
            <a:ext cx="37926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74912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61AA-1D63-4BD1-A314-5879B2DC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WINDOWS\Desktop\PPT\glob4.jpg"/>
          <p:cNvPicPr/>
          <p:nvPr/>
        </p:nvPicPr>
        <p:blipFill>
          <a:blip r:embed="rId2"/>
          <a:stretch/>
        </p:blipFill>
        <p:spPr>
          <a:xfrm>
            <a:off x="0" y="1295280"/>
            <a:ext cx="9144000" cy="2384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32763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246960" indent="-24696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246960" indent="-24696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246960" indent="-24696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246960" indent="-24696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246960" indent="-2469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246960" indent="-2469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7493E-F1F9-4368-9CB7-D4E638DE29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WINDOWS\Desktop\PPT\glo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32763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246960" indent="-24696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246960" indent="-24696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246960" indent="-24696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246960" indent="-24696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246960" indent="-2469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246960" indent="-2469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SPKGLISS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SPKGLI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SPKGLI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SPKGLI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SPKGLISS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SPKGLI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der of Operat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581280" y="4495320"/>
            <a:ext cx="51818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nd that’s PEMDAS!!!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t me see your Jazz Hands!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Bar dir="vert"/>
    <p:sndAc>
      <p:stSnd>
        <p:snd r:embed="rId1" name="SPKGLIS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Excuse My Dear Aunt Sall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 = Parenthes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 = Exponent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 = Multiply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D = Divid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 = Add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 = Subtrac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Bar dir="vert"/>
    <p:sndAc>
      <p:stSnd>
        <p:snd r:embed="rId1" name="SPKGLIS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the order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066680" y="3124080"/>
            <a:ext cx="7467840" cy="32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There are 4 levels. Do the top levels first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1.  Parenthesi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2. Exponent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3. Multiply and divide, from left to right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4. Add and subtract, from left to right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Bar dir="vert"/>
    <p:sndAc>
      <p:stSnd>
        <p:snd r:embed="rId1" name="SPKGLIS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ample 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609480" y="1676520"/>
            <a:ext cx="403884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3 + 2 x 6 - 7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4800600" y="1447920"/>
            <a:ext cx="457200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PEMDAS, multiply (and divide) comes before adding and subtracting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1066680" y="3048120"/>
            <a:ext cx="34290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3 + 12 - 7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Line 6"/>
          <p:cNvSpPr/>
          <p:nvPr/>
        </p:nvSpPr>
        <p:spPr>
          <a:xfrm>
            <a:off x="2057400" y="2514600"/>
            <a:ext cx="60948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Line 8"/>
          <p:cNvSpPr/>
          <p:nvPr/>
        </p:nvSpPr>
        <p:spPr>
          <a:xfrm flipH="1">
            <a:off x="2819520" y="2514600"/>
            <a:ext cx="38088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4876920" y="3276720"/>
            <a:ext cx="411480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ow, we just have adding and subtracting, so go left to right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1676520" y="4267080"/>
            <a:ext cx="27432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15 - 7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Line 11"/>
          <p:cNvSpPr/>
          <p:nvPr/>
        </p:nvSpPr>
        <p:spPr>
          <a:xfrm>
            <a:off x="1447920" y="3886200"/>
            <a:ext cx="457200" cy="5335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Line 12"/>
          <p:cNvSpPr/>
          <p:nvPr/>
        </p:nvSpPr>
        <p:spPr>
          <a:xfrm flipH="1">
            <a:off x="2362320" y="3886200"/>
            <a:ext cx="304560" cy="5335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2057400" y="5410080"/>
            <a:ext cx="16765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3657600" y="5943600"/>
            <a:ext cx="3962520" cy="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5943600" y="5029200"/>
            <a:ext cx="27432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Answer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Bar dir="vert"/>
    <p:sndAc>
      <p:stSnd>
        <p:snd r:embed="rId1" name="SPKGLIS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ample 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609480" y="1752480"/>
            <a:ext cx="61722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8 + (3 x 4) - 13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6172200" y="2743200"/>
            <a:ext cx="2971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arentheses firs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1219320" y="2895480"/>
            <a:ext cx="50292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8 + 12 - 13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6095880" y="3429000"/>
            <a:ext cx="304812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ow, since we have adding and subtracting, just go left to right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1676520" y="3962520"/>
            <a:ext cx="37335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20 - 13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2438280" y="5181480"/>
            <a:ext cx="9907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7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6324480" y="5486400"/>
            <a:ext cx="32767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Answer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Line 10"/>
          <p:cNvSpPr/>
          <p:nvPr/>
        </p:nvSpPr>
        <p:spPr>
          <a:xfrm flipH="1" flipV="1">
            <a:off x="3047760" y="5866920"/>
            <a:ext cx="525780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Bar dir="vert"/>
    <p:sndAc>
      <p:stSnd>
        <p:snd r:embed="rId1" name="SPKGLISS.WAV"/>
      </p:stSnd>
    </p:sndAc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ample 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457200" y="1676520"/>
            <a:ext cx="7238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6000" spc="-1" strike="noStrike" baseline="50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en-US" sz="6000" spc="-1" strike="noStrike" baseline="30000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- (4 x 10) + 3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371600" y="2895480"/>
            <a:ext cx="4419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6000" spc="-1" strike="noStrike" baseline="50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 - 40 + 3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5029200" y="3200400"/>
            <a:ext cx="4114800" cy="182736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ow, the exponent comes first (P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DAS). Remember, 3</a:t>
            </a:r>
            <a:r>
              <a:rPr b="0" lang="en-US" sz="2800" spc="-1" strike="noStrike" baseline="50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is 3 x 3 x 3 x 3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1219320" y="3809880"/>
            <a:ext cx="39621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81 - 40 + 3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5029200" y="5257800"/>
            <a:ext cx="4114800" cy="137232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ow we’re down to adding and subtracting, so go left to right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1828800" y="4800600"/>
            <a:ext cx="34290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41 + 3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2438280" y="5851440"/>
            <a:ext cx="13716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44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0" y="6019920"/>
            <a:ext cx="1828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nswe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Line 11"/>
          <p:cNvSpPr/>
          <p:nvPr/>
        </p:nvSpPr>
        <p:spPr>
          <a:xfrm>
            <a:off x="152280" y="6629400"/>
            <a:ext cx="22100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randomBar dir="vert"/>
    <p:sndAc>
      <p:stSnd>
        <p:snd r:embed="rId1" name="SPKGLISS.WAV"/>
      </p:stSnd>
    </p:sndAc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02:12:45Z</dcterms:created>
  <dc:creator>Administrator</dc:creator>
  <dc:description/>
  <dc:language>en-US</dc:language>
  <cp:lastModifiedBy>Home</cp:lastModifiedBy>
  <dcterms:modified xsi:type="dcterms:W3CDTF">2010-11-14T16:39:45Z</dcterms:modified>
  <cp:revision>16</cp:revision>
  <dc:subject/>
  <dc:title>Order of Operations</dc:title>
</cp:coreProperties>
</file>